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DBD7-C64A-45AB-AA35-24350B73E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7BFA-D467-44A3-893B-3889EF2A4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FE7E-FEE3-49C2-8CAA-3C3231DF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7029-BB0B-464F-ADEE-CED39A2FE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BC87E-A30E-4FB5-B43D-E6A5BE0C1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8E745-E63A-463F-9926-16111545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FF05-D38C-47A3-A1A6-C2409AD7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087FF-DDDD-438F-9001-84F9E1E9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F10E2-6DA9-4A77-84A0-341E3833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210E6-5678-4C37-BBAB-6E747C1E6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A9CDB-1B9F-407D-A947-BD9D7A18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E70F-9706-4552-89FE-D57C1AB2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601E-B826-4141-AE7B-D67CACEB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F9ABA-4554-4E76-B3B3-6145C643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6F02-6166-4E17-BC6D-0EA07564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231C7-DE1E-4FE3-960A-0046B432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BDCDB-91BA-48DF-B4E3-7A33CA025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C587-2EA9-4992-A6A6-C32771F78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2B2D-03D8-4B88-8E57-33B716B6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F06B-3945-4162-BB7B-F0BE13F0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28A1-616F-4D20-A2E2-D1B5C63C1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A178-C20F-4FF1-A405-4399D1AC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B7C8-51A9-462D-A53F-8FE2E014C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8707-127E-4EDA-AC7E-140DDEA2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10EA-65DB-4995-A217-0C7A61E7B546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F304-CD69-4A7E-BB5D-3CF8FFF579F9}" type="slidenum">
              <a:rPr b="0" lang="es-E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5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Magneto"/>
              </a:rPr>
              <a:t>Liceo Francisco del Rosario Sánchez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ff"/>
                </a:solidFill>
                <a:latin typeface="comic"/>
              </a:rPr>
              <a:t>4</a:t>
            </a:r>
            <a:r>
              <a:rPr b="0" lang="en-US" sz="2800" spc="-1" strike="noStrike">
                <a:solidFill>
                  <a:srgbClr val="0000ff"/>
                </a:solidFill>
                <a:latin typeface="comic"/>
              </a:rPr>
              <a:t>to</a:t>
            </a:r>
            <a:r>
              <a:rPr b="0" lang="en-US" sz="4400" spc="-1" strike="noStrike">
                <a:solidFill>
                  <a:srgbClr val="0000ff"/>
                </a:solidFill>
                <a:latin typeface="comic"/>
              </a:rPr>
              <a:t> </a:t>
            </a:r>
            <a:r>
              <a:rPr b="0" lang="en-US" sz="7200" spc="-1" strike="noStrike">
                <a:solidFill>
                  <a:srgbClr val="0000ff"/>
                </a:solidFill>
                <a:latin typeface="comic"/>
              </a:rPr>
              <a:t>C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"/>
              </a:rPr>
              <a:t>Matutin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Bauhaus 93"/>
              </a:rPr>
              <a:t>Prof.</a:t>
            </a:r>
            <a:br>
              <a:rPr sz="4000"/>
            </a:br>
            <a:r>
              <a:rPr b="0" i="1" lang="en-US" sz="8000" spc="-1" strike="noStrike">
                <a:solidFill>
                  <a:srgbClr val="0000ff"/>
                </a:solidFill>
                <a:latin typeface="comic"/>
              </a:rPr>
              <a:t>Alba castillo</a:t>
            </a:r>
            <a:endParaRPr b="0" lang="en-US" sz="80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220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Bauhaus 93"/>
              </a:rPr>
              <a:t>Tema:</a:t>
            </a:r>
            <a:br>
              <a:rPr sz="4000"/>
            </a:br>
            <a:br>
              <a:rPr sz="4000"/>
            </a:br>
            <a:r>
              <a:rPr b="0" lang="en-US" sz="7200" spc="-1" strike="noStrike">
                <a:solidFill>
                  <a:srgbClr val="0000ff"/>
                </a:solidFill>
                <a:latin typeface="Magneto"/>
              </a:rPr>
              <a:t>Grupos Étnicos </a:t>
            </a:r>
            <a:endParaRPr b="0" lang="en-US" sz="72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omic"/>
              </a:rPr>
              <a:t>Grupos étnicos en republica dominicana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Harlow Solid Italic"/>
              </a:rPr>
              <a:t>Desde el momento mismo del descubrimiento de la Española, cuando Colon y sus acompañantes pisan tierra y entran en comunicación con los aborígenes, tiene lugar un proceso mas o menos complejo de relaciones raciales y culturales entre los unos a los o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Harlow Solid Italic"/>
              </a:rPr>
              <a:t>Los contactos de los españoles con los nativos de la isla fueron desde el principio conflictivos, tanto que produjeron la progresiva, pero implacable desaparición de los nativ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Harlow Solid Italic"/>
              </a:rPr>
              <a:t>Ya hacia 1560 apenas quedaban algunos grupos dispersos de indígenas, sin mayores consecuencias para el futuro progreso de miscegenación que daría nacimiento al hombre dominica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Harlow Solid Italic"/>
              </a:rPr>
              <a:t>A diferencia de otros países de América, Santo Domingo no presenta en la actualidad el nuevo tipo étnico común a otras latitudes del continente: el mestiz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Harlow Solid Italic"/>
              </a:rPr>
              <a:t>De la cultura taina restan muy pocos remanentes, y estos corresponden sobre todo a los aspectos materiales de la mis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Harlow Solid Italic"/>
              </a:rPr>
              <a:t>Hay que advertir, por lo demás, que varios de esos aspectos perduraron a través del esclavo africano, quien lo hizo y los incorporo a sus costumbres y hábitos de trabaj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Harlow Solid Italic"/>
              </a:rPr>
              <a:t>Así, por ejemplo, cuando los tainos empezaban a extinguirse, los negros habían logrado ya dominar la técnica del cultivo de la yuca y la preparación del alimento básico de aquell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360" y="260280"/>
            <a:ext cx="82296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Harlow Solid Italic"/>
              </a:rPr>
              <a:t>A través de los años los esclavos africanos, los tainos legaron a nuestra cultura el cultivo de riza, cuya quema y tala de árboles serian luego continuadas por los plantadores azucarer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Harlow Solid Italic"/>
              </a:rPr>
              <a:t>Otros elementos importantes de la cultura material taina que sustituyeron y aparecen hoy incorporados a la vida y actividad cotidiana del dominicana s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Harlow Solid Italic"/>
              </a:rPr>
              <a:t>Instrumentos com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Harlow Solid Italic"/>
              </a:rPr>
              <a:t>La cano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Harlow Solid Italic"/>
              </a:rPr>
              <a:t>La hama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Harlow Solid Italic"/>
              </a:rPr>
              <a:t>El  caracol (usado como trompeta para dar aviso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Harlow Solid Italic"/>
              </a:rPr>
              <a:t>La cuchara de higüer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"/>
              </a:rPr>
              <a:t>Conclusión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Harlow Solid Italic"/>
              </a:rPr>
              <a:t>Esperamos que halla sido de su total agrado y que hallamos recopilado la información necesaria sobre el tema </a:t>
            </a:r>
            <a:r>
              <a:rPr b="0" lang="en-US" sz="3200" spc="-1" strike="noStrike">
                <a:solidFill>
                  <a:srgbClr val="0000ff"/>
                </a:solidFill>
                <a:latin typeface="Bauhaus 93"/>
              </a:rPr>
              <a:t>“Grupos Étnico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 rot="672600">
            <a:off x="5248440" y="2135160"/>
            <a:ext cx="3311280" cy="3170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omic"/>
              </a:rPr>
              <a:t>Integrante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Harlow Solid Italic"/>
              </a:rPr>
              <a:t>Yenny Arias n. 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Harlow Solid Italic"/>
              </a:rPr>
              <a:t>Yensy Silfa n. 0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Harlow Solid Italic"/>
              </a:rPr>
              <a:t>Meli Méndez n. 0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Harlow Solid Italic"/>
              </a:rPr>
              <a:t>Yaritza lebron n. 2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Harlow Solid Italic"/>
              </a:rPr>
              <a:t>Koraima Cuevas n. 2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Harlow Solid Italic"/>
              </a:rPr>
              <a:t>Betty Ventura n. 3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0066"/>
                </a:solidFill>
                <a:latin typeface="Harlow Solid Italic"/>
              </a:rPr>
              <a:t>                 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66"/>
                </a:solidFill>
                <a:latin typeface="Harlow Solid Italic"/>
              </a:rPr>
              <a:t>The pretty girl company ♥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 rot="1072200">
            <a:off x="4933440" y="1844640"/>
            <a:ext cx="3454560" cy="3892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1T03:21:35Z</dcterms:created>
  <dc:creator>Wolf</dc:creator>
  <dc:description/>
  <dc:language>en-US</dc:language>
  <cp:lastModifiedBy>Wolf</cp:lastModifiedBy>
  <dcterms:modified xsi:type="dcterms:W3CDTF">2002-01-01T04:11:51Z</dcterms:modified>
  <cp:revision>2</cp:revision>
  <dc:subject/>
  <dc:title>Liceo Francisco del Rosario Sánchez </dc:title>
</cp:coreProperties>
</file>